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F9FD25-864C-4B27-B454-672824E25DD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70FD9C-6BCE-4B5B-98CE-D8CF7CC9F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igure 2:  Sequence and structural properties of cleavage sequenc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 (a) A stacked histogram showing the percentages for which each residue is present at each position in the cleavage sequence, in positives for Granzyme B (G) and Caspase (C), and negatives (N).  The numbering spans from P4 to P4’.  Letters on the plots represent the one-letter code for each amino acid, followed by its percentage at that position.  X (orange) represents the total percentage for all residues that are present in the position at less than 5% frequency.  Amino acids are grouped by general characteristic (Blues: hydrophobic; reds: branched hydrophobic; greens: acidic; teals: basic; purples: uncharged polar). (b) Structural properties of protease cleavage sequence positives and negatives.  (Structure) indicates that DSSP was used to assess structural properties of substrates where a solved structure or good quality model was available; (Sequence) indicates that sequence-based structural prediction methods were used to assess the fea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B8B69D-0557-421F-B6E2-04D5F4ECB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BFA5-DBEE-477C-9BE7-79480115D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ED50-003B-4EFC-A29F-3A55D5B8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F4EE-12CA-4AB8-8288-892CA13CD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93E7-267D-4C72-9704-A05B9D834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6D76-0C8B-46A8-81BC-E7A1DB5D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7C85-BCC3-4A96-9CFC-2BE5D866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4328-420D-4432-A5B0-0B31FF98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D6B4-387B-42C8-9DB9-0965215A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CFAB-102E-4C69-8D37-B21D354A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C52E-4EE3-4E3C-AF57-DE0F0193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252D-9BE0-4C8F-AE7B-96A8B5D6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FC17-DF73-4251-BBF5-09AE3D17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23CBFC-31E0-4145-877E-9ABA7CBBF9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BC13DE-269B-442A-BF41-0B88A5207A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hart 17" descr=""/>
          <p:cNvPicPr/>
          <p:nvPr/>
        </p:nvPicPr>
        <p:blipFill>
          <a:blip r:embed="rId1"/>
          <a:stretch/>
        </p:blipFill>
        <p:spPr>
          <a:xfrm>
            <a:off x="255600" y="401760"/>
            <a:ext cx="6443640" cy="2627280"/>
          </a:xfrm>
          <a:prstGeom prst="rect">
            <a:avLst/>
          </a:prstGeom>
          <a:ln w="0">
            <a:noFill/>
          </a:ln>
        </p:spPr>
      </p:pic>
      <p:pic>
        <p:nvPicPr>
          <p:cNvPr id="49" name="Chart 9" descr=""/>
          <p:cNvPicPr/>
          <p:nvPr/>
        </p:nvPicPr>
        <p:blipFill>
          <a:blip r:embed="rId2"/>
          <a:stretch/>
        </p:blipFill>
        <p:spPr>
          <a:xfrm>
            <a:off x="165240" y="2968560"/>
            <a:ext cx="3127320" cy="2219400"/>
          </a:xfrm>
          <a:prstGeom prst="rect">
            <a:avLst/>
          </a:prstGeom>
          <a:ln w="0">
            <a:noFill/>
          </a:ln>
        </p:spPr>
      </p:pic>
      <p:pic>
        <p:nvPicPr>
          <p:cNvPr id="50" name="Chart 8" descr=""/>
          <p:cNvPicPr/>
          <p:nvPr/>
        </p:nvPicPr>
        <p:blipFill>
          <a:blip r:embed="rId3"/>
          <a:stretch/>
        </p:blipFill>
        <p:spPr>
          <a:xfrm>
            <a:off x="3736800" y="2968560"/>
            <a:ext cx="3127680" cy="221940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167400" y="192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167760" y="2911320"/>
            <a:ext cx="25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3511440" y="4579920"/>
            <a:ext cx="76320" cy="763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3511440" y="4973760"/>
            <a:ext cx="76320" cy="759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3511440" y="4770360"/>
            <a:ext cx="76320" cy="763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6"/>
          <p:cNvSpPr/>
          <p:nvPr/>
        </p:nvSpPr>
        <p:spPr>
          <a:xfrm>
            <a:off x="3554280" y="4684680"/>
            <a:ext cx="68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p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7"/>
          <p:cNvSpPr/>
          <p:nvPr/>
        </p:nvSpPr>
        <p:spPr>
          <a:xfrm>
            <a:off x="3555720" y="4494240"/>
            <a:ext cx="74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gat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8"/>
          <p:cNvSpPr/>
          <p:nvPr/>
        </p:nvSpPr>
        <p:spPr>
          <a:xfrm>
            <a:off x="3552840" y="488808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3653280" y="2911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7"/>
          <p:cNvSpPr/>
          <p:nvPr/>
        </p:nvSpPr>
        <p:spPr>
          <a:xfrm>
            <a:off x="641160" y="203040"/>
            <a:ext cx="59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4           P3           P2            P1           P1’          P2’           P3’          P4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5" descr=""/>
          <p:cNvPicPr/>
          <p:nvPr/>
        </p:nvPicPr>
        <p:blipFill>
          <a:blip r:embed="rId1"/>
          <a:srcRect l="1227" t="1902" r="1859" b="1902"/>
          <a:stretch/>
        </p:blipFill>
        <p:spPr>
          <a:xfrm>
            <a:off x="152280" y="2158920"/>
            <a:ext cx="64008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0:41:28Z</dcterms:created>
  <dc:creator>David Barkan</dc:creator>
  <dc:description/>
  <dc:language>en-US</dc:language>
  <cp:lastModifiedBy>David Barkan</cp:lastModifiedBy>
  <cp:lastPrinted>2009-09-30T02:40:58Z</cp:lastPrinted>
  <dcterms:modified xsi:type="dcterms:W3CDTF">2010-01-05T10:56:53Z</dcterms:modified>
  <cp:revision>50</cp:revision>
  <dc:subject/>
  <dc:title>Slide 1</dc:title>
</cp:coreProperties>
</file>